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5.png" ContentType="image/png"/>
  <Override PartName="/ppt/media/image35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D9D8-8332-4EE2-8E4F-63DF8FDFC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5A30-8646-44DD-85F4-688F243FD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2B8B-750A-4F24-B1B1-C0EEB24FD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4282-11B0-47FF-8414-CE914FFB41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5744-B932-443E-A93F-9DC9C90AAF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DC2E-10E4-4A8C-8AA7-B759C9F63F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24B8-07D1-4238-A702-49ACA74BF3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8139-985F-4739-9E9D-B49077DDAB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8A77-73B9-458D-9385-3FB70EA358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A09E-366C-40E8-8C5C-40906C91B2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D59E-9BFC-435E-8B33-068DAF99D3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DDE6-C476-4F64-8A9D-5C734018E3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6438-2558-4868-B81D-733A700FCE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EEB8-A798-47DC-A3F9-66FD1B6D92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FCB3-A41E-4B67-B039-F07D1B998F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48DD-7C76-489F-8FF5-390E052A7D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3D93-2EA0-4B29-8817-81FFD85D91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01B7-F294-474F-94CA-CE506C4E7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1858-5361-4B59-B4FF-EE09737F5F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4B64-204B-4F08-9A5D-43DDADCDDF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3AF9-A841-4A80-A691-2EDEEDF59B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635D-233D-4223-A83E-3C7FB16E0B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99A7-02A7-4026-B686-12CD08DE3A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EBAB-C3BB-4B8F-A7FB-A00831240E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7C63-9117-453B-9A48-90A5EB3502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6F43-55EF-468C-BECA-1CCCD85216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9C04-A140-48F8-80C3-1F0D889A2C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4A87-80DC-483C-9EA4-E310622AE5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EC0-7D02-4FB4-B921-B00878BC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199-85D8-413A-95F4-1EA03F27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2C7-CFBE-46DC-81F5-EF8AAF87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FB8-AE12-44BA-8439-040F6D8C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2310-4876-42AB-97E6-48AFF491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FBAE-3E40-4D15-A30A-86C038FF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5CAB-03F2-40E8-877A-81664ED8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7022-2767-442D-8D90-BDC6328C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71E9-B09E-439B-A02D-B132A520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DBFD-9CD4-40D1-BB71-EEFD49F7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1D56-0929-4BED-91FB-ACEA1226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134-B18B-49AB-89F2-B7C89759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C248-0EB4-4746-ACC6-33EE2FCF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86EB-AC9E-412C-80FC-C7B9CE4F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9254-DAB1-4C03-9600-615F7C49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9A35-CBC6-45E3-B778-2D51AD2B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3776-BBD3-4887-B0E1-18316243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FCA-7A24-4494-8E7C-E9F62CCD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E7D-E8BD-493A-B94D-261ABCE6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8CA-76C4-475C-A423-EABB50CB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1BB-3907-4317-8845-79E8B660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F12-9D88-40AD-BAAD-AEDC6426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6ED-A89D-4379-8FDC-CF1CDF5D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740-54DC-46EC-B8F1-4D630010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25E4-9C13-42F2-AB26-70436EC62E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94A9-AA72-4DB6-9B5B-B19982C6DC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3suisses.fr/FrontOfficePortail/FicheProduit/10908/59354_LR_4_10369___.html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3suisses.fr/FrontOfficePortail/FicheProduit/11421/55341_LR__10369___.html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spaces 6 B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 vêtements très ch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Work-Shirt-Short-Sleeve"/>
          <p:cNvPicPr/>
          <p:nvPr/>
        </p:nvPicPr>
        <p:blipFill>
          <a:blip r:embed="rId1"/>
          <a:stretch/>
        </p:blipFill>
        <p:spPr>
          <a:xfrm>
            <a:off x="1752480" y="228600"/>
            <a:ext cx="5486400" cy="4695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"/>
          <p:cNvSpPr/>
          <p:nvPr/>
        </p:nvSpPr>
        <p:spPr>
          <a:xfrm>
            <a:off x="457200" y="518004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ff"/>
                </a:solidFill>
                <a:latin typeface="Berlin Sans FB Demi"/>
              </a:rPr>
              <a:t>une chemise bleue à manches cour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cabula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6095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 cost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mens_italian_suit"/>
          <p:cNvPicPr/>
          <p:nvPr/>
        </p:nvPicPr>
        <p:blipFill>
          <a:blip r:embed="rId1"/>
          <a:stretch/>
        </p:blipFill>
        <p:spPr>
          <a:xfrm>
            <a:off x="3286080" y="1600200"/>
            <a:ext cx="242892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518148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Berlin Sans FB Demi"/>
              </a:rPr>
              <a:t>un blou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4337752825_73b57d7423_m.jpg"/>
          <p:cNvPicPr/>
          <p:nvPr/>
        </p:nvPicPr>
        <p:blipFill>
          <a:blip r:embed="rId1"/>
          <a:stretch/>
        </p:blipFill>
        <p:spPr>
          <a:xfrm>
            <a:off x="3048120" y="22860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04920" y="50292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9999ff"/>
                </a:solidFill>
                <a:latin typeface="Berlin Sans FB Demi"/>
              </a:rPr>
              <a:t>une cravate ble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33520" y="14479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55520" y="-555480"/>
            <a:ext cx="8193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http://www.striped-neckties.com/wordpress/wp-content/uploads/2008/05/italian-striped-silk-tie.jpg"/>
          <p:cNvPicPr/>
          <p:nvPr/>
        </p:nvPicPr>
        <p:blipFill>
          <a:blip r:embed="rId1"/>
          <a:stretch/>
        </p:blipFill>
        <p:spPr>
          <a:xfrm>
            <a:off x="2971800" y="228600"/>
            <a:ext cx="3581280" cy="509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04920" y="51814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ff"/>
                </a:solidFill>
                <a:latin typeface="Berlin Sans FB Demi"/>
              </a:rPr>
              <a:t>un jean bleu fonc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0891"/>
          <p:cNvPicPr/>
          <p:nvPr/>
        </p:nvPicPr>
        <p:blipFill>
          <a:blip r:embed="rId1"/>
          <a:stretch/>
        </p:blipFill>
        <p:spPr>
          <a:xfrm>
            <a:off x="2987640" y="228600"/>
            <a:ext cx="341316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pu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images-1.jpeg"/>
          <p:cNvPicPr/>
          <p:nvPr/>
        </p:nvPicPr>
        <p:blipFill>
          <a:blip r:embed="rId1"/>
          <a:stretch/>
        </p:blipFill>
        <p:spPr>
          <a:xfrm>
            <a:off x="3200400" y="2362320"/>
            <a:ext cx="200664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manteau rou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taille-Madeleine-manteau-Medium-191753_L.jpg"/>
          <p:cNvPicPr/>
          <p:nvPr/>
        </p:nvPicPr>
        <p:blipFill>
          <a:blip r:embed="rId1"/>
          <a:stretch/>
        </p:blipFill>
        <p:spPr>
          <a:xfrm>
            <a:off x="3048120" y="1371600"/>
            <a:ext cx="2460600" cy="3780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53352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3118"/>
          <p:cNvPicPr/>
          <p:nvPr/>
        </p:nvPicPr>
        <p:blipFill>
          <a:blip r:embed="rId1"/>
          <a:stretch/>
        </p:blipFill>
        <p:spPr>
          <a:xfrm>
            <a:off x="2057400" y="9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anor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5" descr="59035"/>
          <p:cNvPicPr/>
          <p:nvPr/>
        </p:nvPicPr>
        <p:blipFill>
          <a:blip r:embed="rId1"/>
          <a:stretch/>
        </p:blipFill>
        <p:spPr>
          <a:xfrm>
            <a:off x="2362320" y="12193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échar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 g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59006"/>
          <p:cNvPicPr/>
          <p:nvPr/>
        </p:nvPicPr>
        <p:blipFill>
          <a:blip r:embed="rId1"/>
          <a:stretch/>
        </p:blipFill>
        <p:spPr>
          <a:xfrm>
            <a:off x="380880" y="1523880"/>
            <a:ext cx="4067280" cy="4067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593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523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352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s vêtement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’est-ce que c’e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6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50126"/>
          <p:cNvPicPr/>
          <p:nvPr/>
        </p:nvPicPr>
        <p:blipFill>
          <a:blip r:embed="rId1"/>
          <a:stretch/>
        </p:blipFill>
        <p:spPr>
          <a:xfrm>
            <a:off x="2209680" y="9144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haussettes-tuyaux.jpg"/>
          <p:cNvPicPr/>
          <p:nvPr/>
        </p:nvPicPr>
        <p:blipFill>
          <a:blip r:embed="rId2"/>
          <a:stretch/>
        </p:blipFill>
        <p:spPr>
          <a:xfrm>
            <a:off x="1752480" y="533520"/>
            <a:ext cx="4572000" cy="4911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chausset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 bot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52280" y="838080"/>
            <a:ext cx="1295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#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55548"/>
          <p:cNvPicPr/>
          <p:nvPr/>
        </p:nvPicPr>
        <p:blipFill>
          <a:blip r:embed="rId1"/>
          <a:stretch/>
        </p:blipFill>
        <p:spPr>
          <a:xfrm>
            <a:off x="762120" y="1676520"/>
            <a:ext cx="3686040" cy="3686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553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6765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33520" y="14479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 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071106_kcole_02c"/>
          <p:cNvPicPr/>
          <p:nvPr/>
        </p:nvPicPr>
        <p:blipFill>
          <a:blip r:embed="rId1"/>
          <a:stretch/>
        </p:blipFill>
        <p:spPr>
          <a:xfrm>
            <a:off x="1828800" y="22860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071106_kcole_02c"/>
          <p:cNvPicPr/>
          <p:nvPr/>
        </p:nvPicPr>
        <p:blipFill>
          <a:blip r:embed="rId2"/>
          <a:stretch/>
        </p:blipFill>
        <p:spPr>
          <a:xfrm>
            <a:off x="4800600" y="22096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"/>
          <p:cNvSpPr/>
          <p:nvPr/>
        </p:nvSpPr>
        <p:spPr>
          <a:xfrm>
            <a:off x="762120" y="449568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Berlin Sans FB Demi"/>
              </a:rPr>
              <a:t>des chauss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1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25447"/>
          <p:cNvPicPr/>
          <p:nvPr/>
        </p:nvPicPr>
        <p:blipFill>
          <a:blip r:embed="rId1"/>
          <a:stretch/>
        </p:blipFill>
        <p:spPr>
          <a:xfrm>
            <a:off x="1523880" y="2085840"/>
            <a:ext cx="2895840" cy="2895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04235"/>
          <p:cNvPicPr/>
          <p:nvPr/>
        </p:nvPicPr>
        <p:blipFill>
          <a:blip r:embed="rId2"/>
          <a:stretch/>
        </p:blipFill>
        <p:spPr>
          <a:xfrm>
            <a:off x="4800600" y="2057400"/>
            <a:ext cx="2909880" cy="2909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maillot de b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sh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citizens_of_humanity_portrait_galeria.jpg"/>
          <p:cNvPicPr/>
          <p:nvPr/>
        </p:nvPicPr>
        <p:blipFill>
          <a:blip r:embed="rId1"/>
          <a:stretch/>
        </p:blipFill>
        <p:spPr>
          <a:xfrm>
            <a:off x="2587680" y="473040"/>
            <a:ext cx="34797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50126"/>
          <p:cNvPicPr/>
          <p:nvPr/>
        </p:nvPicPr>
        <p:blipFill>
          <a:blip r:embed="rId1"/>
          <a:stretch/>
        </p:blipFill>
        <p:spPr>
          <a:xfrm>
            <a:off x="2209680" y="9144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 baskets (fe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cein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ceinture en cuir.jpg"/>
          <p:cNvPicPr/>
          <p:nvPr/>
        </p:nvPicPr>
        <p:blipFill>
          <a:blip r:embed="rId1"/>
          <a:stretch/>
        </p:blipFill>
        <p:spPr>
          <a:xfrm>
            <a:off x="1143000" y="914400"/>
            <a:ext cx="6350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chapea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beatrice_eugenie hats.jpg"/>
          <p:cNvPicPr/>
          <p:nvPr/>
        </p:nvPicPr>
        <p:blipFill>
          <a:blip r:embed="rId1"/>
          <a:stretch/>
        </p:blipFill>
        <p:spPr>
          <a:xfrm>
            <a:off x="1828800" y="838080"/>
            <a:ext cx="496728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sac à mai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sac-a-main-Louis-Vuitton.jpg"/>
          <p:cNvPicPr/>
          <p:nvPr/>
        </p:nvPicPr>
        <p:blipFill>
          <a:blip r:embed="rId1"/>
          <a:stretch/>
        </p:blipFill>
        <p:spPr>
          <a:xfrm>
            <a:off x="1854360" y="1211400"/>
            <a:ext cx="44449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casquet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00F2015601876298-photo-casquette-mlb-cortland-bleue.jpg"/>
          <p:cNvPicPr/>
          <p:nvPr/>
        </p:nvPicPr>
        <p:blipFill>
          <a:blip r:embed="rId1"/>
          <a:stretch/>
        </p:blipFill>
        <p:spPr>
          <a:xfrm>
            <a:off x="2955960" y="1322280"/>
            <a:ext cx="31179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cabula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coco-chanel"/>
          <p:cNvPicPr/>
          <p:nvPr/>
        </p:nvPicPr>
        <p:blipFill>
          <a:blip r:embed="rId1"/>
          <a:stretch/>
        </p:blipFill>
        <p:spPr>
          <a:xfrm>
            <a:off x="2666880" y="1600200"/>
            <a:ext cx="3492720" cy="4495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6095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’est chi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5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 lunettes de sole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images.jpeg"/>
          <p:cNvPicPr/>
          <p:nvPr/>
        </p:nvPicPr>
        <p:blipFill>
          <a:blip r:embed="rId1"/>
          <a:stretch/>
        </p:blipFill>
        <p:spPr>
          <a:xfrm>
            <a:off x="1911240" y="1776240"/>
            <a:ext cx="4267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685800" y="1981080"/>
            <a:ext cx="7772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quelle couleur e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color i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143000" y="4572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quelle couleur e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hevreul.png"/>
          <p:cNvPicPr/>
          <p:nvPr/>
        </p:nvPicPr>
        <p:blipFill>
          <a:blip r:embed="rId1"/>
          <a:stretch/>
        </p:blipFill>
        <p:spPr>
          <a:xfrm>
            <a:off x="1117440" y="1306440"/>
            <a:ext cx="70358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1143000" y="4572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quelle couleur est –ce?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Rose-pink.jpg"/>
          <p:cNvPicPr/>
          <p:nvPr/>
        </p:nvPicPr>
        <p:blipFill>
          <a:blip r:embed="rId1"/>
          <a:stretch/>
        </p:blipFill>
        <p:spPr>
          <a:xfrm>
            <a:off x="1295280" y="1600200"/>
            <a:ext cx="5727960" cy="39495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143000" y="4572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quelle couleur est –ce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images-2.jpeg"/>
          <p:cNvPicPr/>
          <p:nvPr/>
        </p:nvPicPr>
        <p:blipFill>
          <a:blip r:embed="rId1"/>
          <a:stretch/>
        </p:blipFill>
        <p:spPr>
          <a:xfrm>
            <a:off x="2438280" y="1828800"/>
            <a:ext cx="3022560" cy="26924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r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1143000" y="4572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ent  est –ce?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baggy-pants.bmp"/>
          <p:cNvPicPr/>
          <p:nvPr/>
        </p:nvPicPr>
        <p:blipFill>
          <a:blip r:embed="rId1"/>
          <a:stretch/>
        </p:blipFill>
        <p:spPr>
          <a:xfrm>
            <a:off x="1959120" y="1547640"/>
            <a:ext cx="380988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1143000" y="4572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ent  est –ce?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ré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white-chekcer-pant"/>
          <p:cNvPicPr/>
          <p:nvPr/>
        </p:nvPicPr>
        <p:blipFill>
          <a:blip r:embed="rId1"/>
          <a:stretch/>
        </p:blipFill>
        <p:spPr>
          <a:xfrm>
            <a:off x="3657600" y="1276200"/>
            <a:ext cx="28195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685800" y="1981080"/>
            <a:ext cx="7772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er bi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go wit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60948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-ce que cela va bien ensemble?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14722.jpg"/>
          <p:cNvPicPr/>
          <p:nvPr/>
        </p:nvPicPr>
        <p:blipFill>
          <a:blip r:embed="rId1"/>
          <a:stretch/>
        </p:blipFill>
        <p:spPr>
          <a:xfrm>
            <a:off x="5562720" y="4191120"/>
            <a:ext cx="1617480" cy="1714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unnamed.jpg"/>
          <p:cNvPicPr/>
          <p:nvPr/>
        </p:nvPicPr>
        <p:blipFill>
          <a:blip r:embed="rId2"/>
          <a:stretch/>
        </p:blipFill>
        <p:spPr>
          <a:xfrm>
            <a:off x="5029200" y="1828800"/>
            <a:ext cx="2717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60948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portes-tu aujourd’hui?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14722.jpg"/>
          <p:cNvPicPr/>
          <p:nvPr/>
        </p:nvPicPr>
        <p:blipFill>
          <a:blip r:embed="rId1"/>
          <a:stretch/>
        </p:blipFill>
        <p:spPr>
          <a:xfrm>
            <a:off x="5562720" y="4191120"/>
            <a:ext cx="1617480" cy="1714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unnamed.jpg"/>
          <p:cNvPicPr/>
          <p:nvPr/>
        </p:nvPicPr>
        <p:blipFill>
          <a:blip r:embed="rId2"/>
          <a:stretch/>
        </p:blipFill>
        <p:spPr>
          <a:xfrm>
            <a:off x="5029200" y="1828800"/>
            <a:ext cx="2717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8"/>
          <p:cNvSpPr/>
          <p:nvPr/>
        </p:nvSpPr>
        <p:spPr>
          <a:xfrm>
            <a:off x="304920" y="51814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ff"/>
                </a:solidFill>
                <a:latin typeface="Berlin Sans FB Demi"/>
              </a:rPr>
              <a:t>une robe ble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mini-AnneMarie"/>
          <p:cNvPicPr/>
          <p:nvPr/>
        </p:nvPicPr>
        <p:blipFill>
          <a:blip r:embed="rId1"/>
          <a:stretch/>
        </p:blipFill>
        <p:spPr>
          <a:xfrm>
            <a:off x="3276720" y="380880"/>
            <a:ext cx="2619360" cy="4762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1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8"/>
          <p:cNvSpPr/>
          <p:nvPr/>
        </p:nvSpPr>
        <p:spPr>
          <a:xfrm>
            <a:off x="304920" y="51814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ff"/>
                </a:solidFill>
                <a:latin typeface="Berlin Sans FB Demi"/>
              </a:rPr>
              <a:t>une jupe noi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215401310_5671bc38c9_o.jpg"/>
          <p:cNvPicPr/>
          <p:nvPr/>
        </p:nvPicPr>
        <p:blipFill>
          <a:blip r:embed="rId1"/>
          <a:stretch/>
        </p:blipFill>
        <p:spPr>
          <a:xfrm>
            <a:off x="2438280" y="660240"/>
            <a:ext cx="3683160" cy="469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8"/>
          <p:cNvSpPr/>
          <p:nvPr/>
        </p:nvSpPr>
        <p:spPr>
          <a:xfrm>
            <a:off x="304920" y="51814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ff"/>
                </a:solidFill>
                <a:latin typeface="Berlin Sans FB Demi"/>
              </a:rPr>
              <a:t>Un tailleu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elle.jpg"/>
          <p:cNvPicPr/>
          <p:nvPr/>
        </p:nvPicPr>
        <p:blipFill>
          <a:blip r:embed="rId1"/>
          <a:stretch/>
        </p:blipFill>
        <p:spPr>
          <a:xfrm>
            <a:off x="2046240" y="490680"/>
            <a:ext cx="3873600" cy="4978080"/>
          </a:xfrm>
          <a:prstGeom prst="rect">
            <a:avLst/>
          </a:prstGeom>
          <a:ln w="0">
            <a:noFill/>
          </a:ln>
        </p:spPr>
      </p:pic>
      <p:sp>
        <p:nvSpPr>
          <p:cNvPr id="114" name="Up Arrow 4"/>
          <p:cNvSpPr/>
          <p:nvPr/>
        </p:nvSpPr>
        <p:spPr>
          <a:xfrm>
            <a:off x="4303800" y="3657600"/>
            <a:ext cx="823680" cy="1671480"/>
          </a:xfrm>
          <a:prstGeom prst="upArrow">
            <a:avLst>
              <a:gd name="adj1" fmla="val 50000"/>
              <a:gd name="adj2" fmla="val 4995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04920" y="508968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Berlin Sans FB Demi"/>
              </a:rPr>
              <a:t>un pantal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white-chekcer-pant"/>
          <p:cNvPicPr/>
          <p:nvPr/>
        </p:nvPicPr>
        <p:blipFill>
          <a:blip r:embed="rId1"/>
          <a:stretch/>
        </p:blipFill>
        <p:spPr>
          <a:xfrm>
            <a:off x="3429000" y="947880"/>
            <a:ext cx="3048120" cy="43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04920" y="508968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Berlin Sans FB Demi"/>
              </a:rPr>
              <a:t>un chemisi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hemise-topshop.jpg"/>
          <p:cNvPicPr/>
          <p:nvPr/>
        </p:nvPicPr>
        <p:blipFill>
          <a:blip r:embed="rId1"/>
          <a:stretch/>
        </p:blipFill>
        <p:spPr>
          <a:xfrm>
            <a:off x="2743200" y="1143000"/>
            <a:ext cx="3263760" cy="41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04920" y="480204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Berlin Sans FB Demi"/>
              </a:rPr>
              <a:t>une chemise blan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guestofaguest.com/wp-content/uploads/2009/01/suspenders.jpg"/>
          <p:cNvPicPr/>
          <p:nvPr/>
        </p:nvPicPr>
        <p:blipFill>
          <a:blip r:embed="rId1"/>
          <a:stretch/>
        </p:blipFill>
        <p:spPr>
          <a:xfrm>
            <a:off x="2743200" y="0"/>
            <a:ext cx="3733920" cy="497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22:15:10Z</dcterms:created>
  <dc:creator>mgrasso2</dc:creator>
  <dc:description/>
  <dc:language>en-US</dc:language>
  <cp:lastModifiedBy>Viviane Grebert</cp:lastModifiedBy>
  <dcterms:modified xsi:type="dcterms:W3CDTF">2011-11-14T23:20:08Z</dcterms:modified>
  <cp:revision>32</cp:revision>
  <dc:subject/>
  <dc:title>Slide 1</dc:title>
</cp:coreProperties>
</file>